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744-2FE9-4A51-954B-F427D342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9A7-AC51-4E48-BCE1-2E993ACB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DD8-B088-411F-9E73-27D81EDE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E9C-9AC5-449A-985A-6641AA06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FA4-70CF-4EFD-BEE6-C12C0E3C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1E9-8BC0-49A4-8D9C-965889C1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9E0-E550-4C54-94D6-CDCDEF9E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F2A-69BF-447F-B4C4-06C6A801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A71-D939-46FF-9D68-4EDA7491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B9A-4AAE-4983-BE7D-02DA061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619-8122-49B3-9AD7-32AA8FD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4A5-D03E-4695-B715-09E2723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6860-4394-4A8D-8154-D0B5EDE6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0520" y="318960"/>
          <a:ext cx="7010280" cy="933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18960"/>
                    <a:ext cx="7010280" cy="933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636000" y="147312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2160" y="5931000"/>
            <a:ext cx="47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      EA                    143.75                $575.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1800" y="758196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5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29840" y="7661160"/>
            <a:ext cx="119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.N.  PUR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777240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67064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9048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7520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0200" y="8939160"/>
            <a:ext cx="153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476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41760" y="8651880"/>
            <a:ext cx="1178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4496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02240" y="1446120"/>
            <a:ext cx="833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6-48-19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87720" y="7226280"/>
            <a:ext cx="411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796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204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-396720" y="1325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572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07920" y="7184880"/>
            <a:ext cx="468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972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859788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919080" y="7226280"/>
            <a:ext cx="476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288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0760" y="8826480"/>
            <a:ext cx="199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S N. DeMAIL, LTC, R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9880" y="85978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0720" y="8915400"/>
            <a:ext cx="544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8040" y="8621640"/>
            <a:ext cx="155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52280" y="936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36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291920" y="904248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880" y="968688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792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852120" y="7203960"/>
            <a:ext cx="162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7320" y="774396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857556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44960" y="762120"/>
            <a:ext cx="4789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aintain Commitment and Obligation Records/Review Detail Expenditure Repor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760" y="1407960"/>
            <a:ext cx="66492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You are the budget clerk assigned to the Headquarters, 3d Brigade Armor, 77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ry, 54th Infantry Division (Mechanized), Fort Stewart, GA 31314.  You are responsibl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the obligation and commitment records; performing the weekly and joint Disbur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/Activity reconciliation, and review of unliquidated obligations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are responsibl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C A142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have 5 class periods to conduct practical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000" y="270360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3160800"/>
            <a:ext cx="71002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5-26 to your FCR. Use date of request as Today’s 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01 to 10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nswer questions 1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30-49 to your FCR.  Today’s date is 20 Oct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20 to 10 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view the NSFOP listing and make any adjustments as necessary to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nswer questions 8-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8600" y="9596520"/>
            <a:ext cx="648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I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7280" y="52056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560" y="82548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880" y="135900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1751040"/>
            <a:ext cx="67788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6440" y="20559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2                              8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2                              3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" y="2513160"/>
            <a:ext cx="3973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440" y="312264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2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9680" y="342756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460.00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6440" y="403704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2                              3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2                              5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9680" y="44942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835.00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800" y="5103720"/>
            <a:ext cx="39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1                             2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1                             4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760" y="55609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6440" y="617076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1 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64753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440" y="70851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1                                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1                              1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760" y="757728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520" y="8228160"/>
            <a:ext cx="39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    231     3     230   PRC1002**C1713   2321       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9680" y="85676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          MTD   OBLIG PERIOD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44460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560" y="74916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0880" y="128268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" y="1674720"/>
            <a:ext cx="69390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   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440" y="2131920"/>
            <a:ext cx="4107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PRC1125**P2100   2572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7880" y="25131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      MTD   OBLIG TOTAL            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  575.00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080" y="3198960"/>
            <a:ext cx="4127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W54FTATT4002       26EB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880" y="357984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      MTD   OBLIG TOTAL               6,600.00                               6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4265640"/>
            <a:ext cx="407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     211     3     401   PRC1007**C1772    26AR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7880" y="45705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      MTD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533412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840" y="548640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0000" y="717480"/>
            <a:ext cx="7132320" cy="81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(Refer to the FCR)  Based on the reconciliation, what action would you tak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Take n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move SMI7459TT10004 from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Call the DO to find out why the document has not processed and make no changes to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Call the DO to find out why the document has not processed and remove the transaction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CR until it processes on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(Refer to the DOR, EOR 21T2)  What DATE/BLK # should you post to the FCR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IRV4825TT1000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19 Oct/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14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19 Oct/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  1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(Refer to the FCR)  What is the current uncommitted balance for EOR 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 7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14,23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13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9,94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date column on the FCR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To show when the availability of funds was cer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End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Beginn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The posted current date of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ich column on the FCR reflects the current quarterly funding allow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bligation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Commitmen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ncommitted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Funding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(Refer to the DOR)  In what stage is the transaction DRN:  PRC1002**C1713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Obl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ccrued Expenditure/Ex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Disbur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(Refer to the DOR)  Who made the input to DRN:  PRC1125**P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rocess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Budge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Supply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Disburs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6588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832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592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87840" y="718668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048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24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128120" y="7203960"/>
            <a:ext cx="132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le B. Rod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6040" y="7203960"/>
            <a:ext cx="15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M.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4440" y="780588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18520" y="15112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8720" y="251460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3080" y="7696080"/>
            <a:ext cx="198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NDELL PURCHASE, LTC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58720" y="757728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9360" y="792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792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605040" y="9185400"/>
            <a:ext cx="1219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618720" y="9185400"/>
            <a:ext cx="115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J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1972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4160" y="903276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1360" y="7128000"/>
            <a:ext cx="152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Paul W. Burrou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67280" y="81644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7280" y="79358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2732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224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152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98640" y="846000"/>
            <a:ext cx="189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38240" y="846000"/>
            <a:ext cx="96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880" y="1227240"/>
            <a:ext cx="488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roughs Office Machines, 123 East 46th Street, Atlanta, GA  3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6520" y="1608120"/>
            <a:ext cx="2060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#  DAFI01**C17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200" y="1913040"/>
            <a:ext cx="71478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                SUPPLIES/SERVICES                     QTY         UNIT         PRICE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360" y="2370240"/>
            <a:ext cx="5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" y="2370240"/>
            <a:ext cx="3779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IBM System 4002  (EOR 233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Software Package 12  (EOR 23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4440" y="2370240"/>
            <a:ext cx="30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4080" y="2370240"/>
            <a:ext cx="428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58040" y="2370240"/>
            <a:ext cx="1077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48400" y="2362320"/>
            <a:ext cx="1035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5280" y="3436920"/>
            <a:ext cx="64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26720" y="3817800"/>
            <a:ext cx="573048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FOB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O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(Must include) - Contrac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or’s name and remit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ment will be made upon receipt and acceptance of the good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768120" y="9185400"/>
            <a:ext cx="131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I. Fil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36680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9720" y="56674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1120" y="7128000"/>
            <a:ext cx="140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ger S. Pe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9604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76120" y="7116840"/>
            <a:ext cx="1037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81040" y="898524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7148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29080" y="718668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8784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7680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4780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3224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464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816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210920" y="9032760"/>
            <a:ext cx="1348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139640" y="905652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139640" y="903276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6920" y="426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480" y="73188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4040" y="118908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1920" y="15811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6640" y="1874880"/>
            <a:ext cx="4047480" cy="241200"/>
            <a:chOff x="296640" y="1874880"/>
            <a:chExt cx="4047480" cy="241200"/>
          </a:xfrm>
        </p:grpSpPr>
        <p:sp>
          <p:nvSpPr>
            <p:cNvPr id="289" name=""/>
            <p:cNvSpPr/>
            <p:nvPr/>
          </p:nvSpPr>
          <p:spPr>
            <a:xfrm>
              <a:off x="296640" y="1874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7080" y="1874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2000" y="1874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0960" y="1874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8920" y="1874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34480" y="1874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77120" y="1874880"/>
              <a:ext cx="567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.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15840" y="21034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7600" y="21034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0440" y="21034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760" y="22971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44080" y="2297160"/>
            <a:ext cx="1408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4800" y="24843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 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9760" y="2747880"/>
            <a:ext cx="4014360" cy="241200"/>
            <a:chOff x="329760" y="2747880"/>
            <a:chExt cx="4014360" cy="241200"/>
          </a:xfrm>
        </p:grpSpPr>
        <p:sp>
          <p:nvSpPr>
            <p:cNvPr id="303" name=""/>
            <p:cNvSpPr/>
            <p:nvPr/>
          </p:nvSpPr>
          <p:spPr>
            <a:xfrm>
              <a:off x="329760" y="2747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0920" y="2747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5840" y="2747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4440" y="2747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2760" y="2747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8320" y="2747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69560" y="27478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4.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88840" y="30178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50600" y="30178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13440" y="30178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87760" y="32115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7760" y="32115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77800" y="33987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02760" y="3686040"/>
            <a:ext cx="4041720" cy="241200"/>
            <a:chOff x="302760" y="3686040"/>
            <a:chExt cx="4041720" cy="241200"/>
          </a:xfrm>
        </p:grpSpPr>
        <p:sp>
          <p:nvSpPr>
            <p:cNvPr id="317" name=""/>
            <p:cNvSpPr/>
            <p:nvPr/>
          </p:nvSpPr>
          <p:spPr>
            <a:xfrm>
              <a:off x="302760" y="36860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92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8840" y="36860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708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5760" y="368604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1320" y="36860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42560" y="368604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88840" y="39322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50600" y="39322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3440" y="39322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87760" y="41259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67760" y="41259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7800" y="43131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7280" y="39560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02760" y="4576680"/>
            <a:ext cx="4041720" cy="241200"/>
            <a:chOff x="302760" y="4576680"/>
            <a:chExt cx="4041720" cy="241200"/>
          </a:xfrm>
        </p:grpSpPr>
        <p:sp>
          <p:nvSpPr>
            <p:cNvPr id="332" name=""/>
            <p:cNvSpPr/>
            <p:nvPr/>
          </p:nvSpPr>
          <p:spPr>
            <a:xfrm>
              <a:off x="302760" y="4576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392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88840" y="4576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1708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5760" y="457668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41320" y="4576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42560" y="457668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88840" y="4788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50600" y="4788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13440" y="4788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7760" y="501660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67760" y="498168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5.00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77440" y="5168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335.00 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07640" y="4811760"/>
            <a:ext cx="636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02760" y="5432400"/>
            <a:ext cx="3994200" cy="241200"/>
            <a:chOff x="302760" y="5432400"/>
            <a:chExt cx="3994200" cy="241200"/>
          </a:xfrm>
        </p:grpSpPr>
        <p:sp>
          <p:nvSpPr>
            <p:cNvPr id="347" name=""/>
            <p:cNvSpPr/>
            <p:nvPr/>
          </p:nvSpPr>
          <p:spPr>
            <a:xfrm>
              <a:off x="302760" y="54324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92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8840" y="54324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1708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4680" y="54324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41320" y="54324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9920" y="543240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3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2760" y="5584680"/>
            <a:ext cx="3997080" cy="241200"/>
            <a:chOff x="302760" y="5584680"/>
            <a:chExt cx="3997080" cy="241200"/>
          </a:xfrm>
        </p:grpSpPr>
        <p:sp>
          <p:nvSpPr>
            <p:cNvPr id="355" name=""/>
            <p:cNvSpPr/>
            <p:nvPr/>
          </p:nvSpPr>
          <p:spPr>
            <a:xfrm>
              <a:off x="302760" y="5584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392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8840" y="5584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1708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4680" y="558468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N1927TT1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1320" y="5584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25280" y="55846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02760" y="5737320"/>
            <a:ext cx="4011480" cy="241200"/>
            <a:chOff x="302760" y="5737320"/>
            <a:chExt cx="4011480" cy="241200"/>
          </a:xfrm>
        </p:grpSpPr>
        <p:sp>
          <p:nvSpPr>
            <p:cNvPr id="363" name=""/>
            <p:cNvSpPr/>
            <p:nvPr/>
          </p:nvSpPr>
          <p:spPr>
            <a:xfrm>
              <a:off x="302760" y="57373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92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8840" y="57373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1708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5760" y="57373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41320" y="57373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12320" y="573732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878040" y="60069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39440" y="60069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02640" y="60069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76960" y="620064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56600" y="620064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66280" y="638820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2520" y="60310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719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91600" y="6669000"/>
            <a:ext cx="4024440" cy="241200"/>
            <a:chOff x="291600" y="6669000"/>
            <a:chExt cx="4024440" cy="241200"/>
          </a:xfrm>
        </p:grpSpPr>
        <p:sp>
          <p:nvSpPr>
            <p:cNvPr id="378" name=""/>
            <p:cNvSpPr/>
            <p:nvPr/>
          </p:nvSpPr>
          <p:spPr>
            <a:xfrm>
              <a:off x="291600" y="66690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276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7680" y="66690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592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33520" y="66690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30160" y="66690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14120" y="666900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446480" y="6845400"/>
            <a:ext cx="122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1600" y="6821640"/>
            <a:ext cx="4019400" cy="241200"/>
            <a:chOff x="291600" y="6821640"/>
            <a:chExt cx="4019400" cy="241200"/>
          </a:xfrm>
        </p:grpSpPr>
        <p:sp>
          <p:nvSpPr>
            <p:cNvPr id="387" name=""/>
            <p:cNvSpPr/>
            <p:nvPr/>
          </p:nvSpPr>
          <p:spPr>
            <a:xfrm>
              <a:off x="291600" y="68216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2760" y="68216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7680" y="68216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6280" y="682164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0160" y="68216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49120" y="6821640"/>
              <a:ext cx="461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.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91600" y="6973920"/>
            <a:ext cx="4005360" cy="241200"/>
            <a:chOff x="291600" y="6973920"/>
            <a:chExt cx="4005360" cy="241200"/>
          </a:xfrm>
        </p:grpSpPr>
        <p:sp>
          <p:nvSpPr>
            <p:cNvPr id="394" name=""/>
            <p:cNvSpPr/>
            <p:nvPr/>
          </p:nvSpPr>
          <p:spPr>
            <a:xfrm>
              <a:off x="291600" y="69739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76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7680" y="69739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0592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34600" y="69739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30160" y="69739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9920" y="697392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1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78040" y="7209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39440" y="7209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02640" y="7209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76960" y="740268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56600" y="740268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66280" y="7589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02520" y="7232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9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84160" y="78357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45920" y="78357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08760" y="78357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82720" y="8029440"/>
            <a:ext cx="191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21 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86760" y="8029440"/>
            <a:ext cx="15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3120" y="821700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32320" y="785988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496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364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5000" y="480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3560" y="87480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2120" y="146700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1920" y="19699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5200" y="219708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5**C2108     2332    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6480" y="244332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2     MTD    OBLIG TOTAL        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240,000.00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5200" y="3054240"/>
            <a:ext cx="414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 2335     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6480" y="33400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5     MTD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200" y="392760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2339     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6480" y="41608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9     MTD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840" y="4765680"/>
            <a:ext cx="420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3**C1594      2572                         5,49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572                         1,0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4         2572                        1,500.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6480" y="530388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8,025.00                    8,0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72     MTD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6480" y="591336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AR     MTD    OBLIG TOTAL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5560" y="6459480"/>
            <a:ext cx="4161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1        26EB                      1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6EB                        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7560" y="6921360"/>
            <a:ext cx="4223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EB     MTD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09520" y="596880"/>
            <a:ext cx="15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D  2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69080" y="596880"/>
            <a:ext cx="280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N STOCK FUND ORDERS AND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46400" y="596880"/>
            <a:ext cx="117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OF 2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040" y="1054080"/>
            <a:ext cx="3231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C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P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P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Q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LL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/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D      21           *    2020    0    76   9505   0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" y="1522440"/>
            <a:ext cx="7510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T PROG  APC EOR  ODC  DOCUMENT NO NAME  OBL AMT    ACC AMT    DISB AMT  EOC-HR  O-DT  A-DT  D-DT  AF DF LI  FAC  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160" y="1751040"/>
            <a:ext cx="7606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 2000  A142   21T2    2    BAR7732TT10001            396.35          396.35         396.35                       * 284  * 284  * 296        F    K    3      0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17400" y="189540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29440" y="1879560"/>
            <a:ext cx="113256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7732TT1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95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2**C17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5**C21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3**C159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125**P2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205**P21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23560" y="2014560"/>
            <a:ext cx="4680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700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4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8516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228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2.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9.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95.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5184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7800" y="1879560"/>
            <a:ext cx="46944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2036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83480" y="1509840"/>
            <a:ext cx="26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30480" y="1886040"/>
            <a:ext cx="2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4520" y="1911240"/>
            <a:ext cx="2638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09920" y="188604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74880" y="1886040"/>
            <a:ext cx="3096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62485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640080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7520" y="9677520"/>
            <a:ext cx="680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5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55680" y="711360"/>
            <a:ext cx="70146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 (Refer to the FCR)  What is the current Uncommitted Balance for EOR 21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$9,38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$9,26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9,35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9,23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 If you have a negative balance in the Uncommitted Balance column of your FCR wh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Law are you in violation of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Title 13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Title 1517;  USC 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Title 31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Title 1517;  USC 3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 (Refer to FCR, EOR 2600)  Situation:  You have just received a Purchase Request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itment document in your office with a total dollar amount of $2,000.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Post it to your FC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Return the document to the originator with an explanation funding is not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is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Do not post the document to your FCR but forward to contracting for further process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.  What is the primary purpose of the NSFOP listing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Contains open expenditure accounting trans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Contains expenditure ceiling and undelivered orders by program el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Will provide a listing of all old oblig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Provides fund managers with unobligated ceiling dollars by appropriation/allot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.  What is an open transaction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A transaction in the commitment st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A transaction in which the dollar value of the obligation and accrual mat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A transaction in which the dollar value of the disbursement is greater than the oblig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ccr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A transaction in which the dollar value of the obligation, accrual, and the 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 not eq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FOR QUESTIONS 13-16 REFER TO THE NSF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3.  What is the amount of Undelivered Orders for EOR 2339, DRN:  PRC1009**C1774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$         0.00, this is not an Undeliverable Or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$  1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12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13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64960" y="824040"/>
            <a:ext cx="7225200" cy="79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 What is the amount of Undelivered Orders for EOR 26AR, DRN:  PRC1007**C17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   0.00, this is not an Undelivered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1,1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2,3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,0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 What is the amount of Unliquidated Obligations for EOR 21T1, 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5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27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49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5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 After conducting a reconciliation with DO what action would you take on the transaction, EOR 21T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Have DO move the disbursement from SMI7495TT10004 to the obligation u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 SMI7459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Have DO move the obligation from SMI7459TT10004 to the disbursement 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 SMI7495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djust the commitments on your FCR-27.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o action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 What action does the document on page 36 requi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o the FCR and forward to finance for obl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st to the FCR but wait until later to obli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No action required at this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  What is the MTD OBLIG TOTAL for EOR 2321 on the DOR 20-26 Octo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2,44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70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2,09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  What is the amount processed on the DOR during the time period 20-26 October for EOR 25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5,49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8,02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5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  (Refer to the NSFOP)  What was the last date transaction EOR 21T2 affected the oblig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BAR7732TT1000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*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*2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25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26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9220320"/>
            <a:ext cx="65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4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99880" y="1119240"/>
            <a:ext cx="70362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.  The General Fund Delinquent Report has the same format as what report?  What is th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NSFOP/used to reconcile closed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NSFOP/used to reconcile DRN’s where the obligation is greater than the disbursement a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criteria exceeds the criteria established by the Liquidation Indicato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DOR/used to reconcile closed transactions where the obligation is less than the disburs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SFOP/used to reconcile open transactions where there is an “F” in the disbursement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column of the NSF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.  (Refer to the NSFOP)  What does the ODC for EOR 26AR, DRN:  PRC1007**C1772 tell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unds spent outside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Funds spent within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Funds spent in a foreign coun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440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26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05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6212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65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-320760" y="17827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06200" y="7226280"/>
            <a:ext cx="48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2520" y="780084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-549360" y="20113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73454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86200" y="78184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8240" y="9596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677400" y="9190080"/>
            <a:ext cx="13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Harry S. Gol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240" y="9596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7T13:59:44Z</dcterms:created>
  <dc:creator>SFL</dc:creator>
  <dc:description/>
  <dc:language>en-US</dc:language>
  <cp:lastModifiedBy>Administrator</cp:lastModifiedBy>
  <cp:lastPrinted>2001-10-02T20:32:23Z</cp:lastPrinted>
  <dcterms:modified xsi:type="dcterms:W3CDTF">2005-03-23T21:28:57Z</dcterms:modified>
  <cp:revision>19</cp:revision>
  <dc:subject/>
  <dc:title>No Slide Title</dc:title>
</cp:coreProperties>
</file>